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ct" ContentType="image/x-pict"/>
  <Override PartName="/ppt/media/image6.png" ContentType="image/png"/>
  <Override PartName="/ppt/media/image11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C8A-30FC-424D-BAFA-324187C0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194-AE79-46DB-9748-D176DC61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460-EE73-4B74-B2FB-3AADAF7C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B2B-B1CA-49EA-AB87-7DB946C1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D5EC-B8E8-43C3-9656-02200A26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DB6F-D7FA-4F57-A90B-D2FA3E64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1593-ABF7-4416-A4F8-B3238F3D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81FA-6446-46BF-B99B-7C2763C6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A695-8F88-4BE3-A678-D42BEBB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2DE6-B091-4E45-B0D2-07642CBD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27D9-2B7B-4671-B1FF-DBEFCB4D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BB7-62FC-44F3-B5B9-F29E6A23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2634-6AA4-44FC-B3EE-19B6D7E0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852F-352B-4DED-8434-12537F92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CACC-3839-4076-B3B5-4BFE08A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6370-98F7-48E3-9327-26F65ED3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499F-9D08-49EF-964D-49360BCE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35B-708B-4430-95DA-F8AE06D7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7D1-0941-4032-9D1A-02443DAD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D7E-4121-4DF6-BAD6-F3A2A1C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D3A-F3EC-4FE4-A5FC-0BCBCB5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0E4-0352-42DF-8E08-C7BE5EC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DA5-700F-4D94-8C14-BE56992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4EC-D242-461C-8021-FDEFF6B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A012-4231-4B33-A9A3-297D5CE90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63CB-7AC6-453E-8A60-857FFB286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dPi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lide Show: Using Idea Machine Templat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29000" y="4397400"/>
            <a:ext cx="2403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Saved Pic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y Picture window will open up on th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he name of your first sl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OPEN but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 all your 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hese steps for each slide that you want to a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are finished adding slides you can watch your show by clicking on the green PLAY 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change the time between slides by choosing the TRANSITION 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ting Op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int your slide show Go to FILE in the menu 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how you want to print your bookl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lide will be saved to the My Slideshow f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ave slide shows to a flash drive to create a class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Shows can also be made with all original draw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en KidPix Templ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he Idea Machine icon in the upper left hand c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Click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2895480"/>
            <a:ext cx="914400" cy="228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lders and Subfol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window select the folder area you want to exp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use “All About Me” then the subfolder “Thankfu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jects to look at under these folders and subf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oosing your Templ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you select your folder and subfolder category you will see template o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template you would like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0400" y="4114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 on your templ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late you chose will open up into the blank page spot on your ea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raw and paint tools to color the pi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BS to add your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ickers to person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your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re finish make sure you save th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the FILE menu select Save a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18288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e to the My Pictures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are in the My Pictures 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your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Save button at the bottom right of the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these steps to create all the pictures for your slide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297180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257800"/>
            <a:ext cx="152280" cy="4572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lide Sh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you have completed all the slides for your show you are ready to st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he Slide Show icon in the lower right corner of the screen (it looks like a film cl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24080" y="4952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ilding the Sh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lide show builder will app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folder icon underneath the first slide to add your saved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35053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9:29:49Z</dcterms:created>
  <dc:creator>Lupin Hill</dc:creator>
  <dc:description/>
  <dc:language>en-US</dc:language>
  <cp:lastModifiedBy>LVUSD LVUSD</cp:lastModifiedBy>
  <dcterms:modified xsi:type="dcterms:W3CDTF">2010-10-25T21:36:54Z</dcterms:modified>
  <cp:revision>2</cp:revision>
  <dc:subject/>
  <dc:title>KidPix</dc:title>
</cp:coreProperties>
</file>